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A6F17-E95C-4ECA-9346-5D08E34E8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5FEED-9A97-4C8E-AC08-BDD81FF0E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9113E-80F9-49A4-B29F-3CF900DBA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F20A9-B479-4D75-9256-3B310090E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041840-04F8-4D70-8C9A-7A11DBF822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AF28F-5A95-44C9-9598-1605AC8B7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BE02B-B0DB-47E9-BFDE-6CE014DD7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09109-FA45-44CB-ABD7-9BD875BD7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B7234-23E0-4CA1-BB38-54DB726E4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8B37F-D689-483E-B045-BA3801F9F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87D5F-1CF6-4060-9BCF-6184DFE12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F7B7D-E381-49DE-BA04-95BDE5521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9CCA9-9490-4372-AD65-8DBF77332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64F0F-49AB-4266-8617-C4EFD6579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7C26F-8FEB-474B-953A-02CB0E31B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59F7C6-CF92-4544-9F21-81F6A4C334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BAA6C0-79CF-4439-903C-9A32AACC4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9DD6C-2E10-43F6-92FF-A9CA216CF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98B83-2445-4902-B36D-971C4F2DD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AEE77-CFA1-42B1-B718-56FA4C0A1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0125F-A506-4CA5-827E-CCB85FE82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1A19C-3B79-4D84-AE2F-FE437FFBE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4CC3F-EF7F-4BD6-A603-7FF48AB1E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02D0E-45BD-486E-904B-23E8F7EC9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9C408-2DAA-4CEB-8036-48C9DFDD02A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7EEE5-C782-4E26-80FE-EE754231DDE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player.discoveryeducation.com/index.cfm?guidAssetId=99052A50-FBEA-433C-B3FA-5DA461A60045&amp;blnFromSearch=1&amp;productcode=US" TargetMode="External"/><Relationship Id="rId2" Type="http://schemas.openxmlformats.org/officeDocument/2006/relationships/hyperlink" Target="http://player.discoveryeducation.com/index.cfm?guidAssetId=4725F3C3-665A-4FD4-A774-8EF7A54E0108&amp;blnFromSearch=1&amp;productcode=US"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hapter 6: Sports &amp; Conditioning</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esson 2: Sports &amp; Physical Wellnes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to Eat Cont’d…</a:t>
            </a:r>
            <a:endParaRPr b="0" lang="en-US" sz="44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on’t load up on protein or fat. </a:t>
            </a:r>
            <a:r>
              <a:rPr b="0" lang="en-US" sz="2200" spc="-1" strike="noStrike">
                <a:solidFill>
                  <a:srgbClr val="ffffff"/>
                </a:solidFill>
                <a:latin typeface="Arial"/>
              </a:rPr>
              <a:t>An athlete does not need more protein or fats than a nonathlete. Eating 2-3 servings from the meat, poultry, fish, dry beans, eggs and nuts group daily will provide all the protein you need.</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Eat breakfast. </a:t>
            </a:r>
            <a:r>
              <a:rPr b="0" lang="en-US" sz="2200" spc="-1" strike="noStrike">
                <a:solidFill>
                  <a:srgbClr val="ffffff"/>
                </a:solidFill>
                <a:latin typeface="Arial"/>
              </a:rPr>
              <a:t>You’ll perform better if you’ve given your body fuel to go on.</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rink plenty of water. </a:t>
            </a:r>
            <a:r>
              <a:rPr b="0" lang="en-US" sz="2200" spc="-1" strike="noStrike">
                <a:solidFill>
                  <a:srgbClr val="ffffff"/>
                </a:solidFill>
                <a:latin typeface="Arial"/>
              </a:rPr>
              <a:t>8 glasses are recommended each day for most individuals. If you are playing a sport, raise that to 9-13 glasses of water. While engaging in sports, you lose more water because you perspire. </a:t>
            </a:r>
            <a:r>
              <a:rPr b="0" lang="en-US" sz="2200" spc="-1" strike="noStrike">
                <a:solidFill>
                  <a:srgbClr val="ffff00"/>
                </a:solidFill>
                <a:latin typeface="Arial"/>
              </a:rPr>
              <a:t>Dehydration is excessive loss of water from the body. </a:t>
            </a:r>
            <a:r>
              <a:rPr b="0" lang="en-US" sz="2200" spc="-1" strike="noStrike">
                <a:solidFill>
                  <a:srgbClr val="ffffff"/>
                </a:solidFill>
                <a:latin typeface="Arial"/>
              </a:rPr>
              <a:t>It can cause muscle cramps and heatstroke, and it is also harmful to other body systems.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n to Eat, Figure 6.3 p. 156</a:t>
            </a:r>
            <a:endParaRPr b="0" lang="en-US" sz="4400" spc="-1" strike="noStrike">
              <a:solidFill>
                <a:srgbClr val="ffffff"/>
              </a:solidFill>
              <a:latin typeface="Times New Roman"/>
            </a:endParaRPr>
          </a:p>
        </p:txBody>
      </p:sp>
      <p:sp>
        <p:nvSpPr>
          <p:cNvPr id="11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 Before You Play – eat foods that are rich in complex carbs (bananas, bagels, and fruit juic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at about 1-2 hours before your gam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rink plenty of fluids as wel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ctors consider breakfast the most important meal of the da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n to Eat, cont’d….</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 During Your Gam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rink plenty of cool water, at least ½ cup every 20 minutes. </a:t>
            </a:r>
            <a:endParaRPr b="0" lang="en-US" sz="26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n to Eat, cont’d…</a:t>
            </a:r>
            <a:endParaRPr b="0" lang="en-US" sz="4400" spc="-1" strike="noStrike">
              <a:solidFill>
                <a:srgbClr val="ffffff"/>
              </a:solidFill>
              <a:latin typeface="Times New Roman"/>
            </a:endParaRPr>
          </a:p>
        </p:txBody>
      </p:sp>
      <p:sp>
        <p:nvSpPr>
          <p:cNvPr id="11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3. After Your Gam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at a balanced meal with plenty of carbohydrates but also some proteins and fat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ke sure that the meal also replenishes vitamins and mineral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ue to drink water and other liquid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venting Injuries, p. 157</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lways warm up, stretch, and cool down.</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earn the proper techniques for your sport. For example, when you throw a ball, avoid overextending your elbow. When you land from a jump, bend your knees.</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f you get injured, don’t return to play until you’ve been checked out by the coach, a trainer, or a doctor.</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ntrol your emotions. Getting angry may cloud your judgement and cause you to get hurt or hurt someone else.</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otective Equipment, Figure 6.4 p. 157</a:t>
            </a:r>
            <a:endParaRPr b="0" lang="en-US" sz="4000" spc="-1" strike="noStrike">
              <a:solidFill>
                <a:srgbClr val="ffffff"/>
              </a:solidFill>
              <a:latin typeface="Times New Roman"/>
            </a:endParaRPr>
          </a:p>
        </p:txBody>
      </p:sp>
      <p:sp>
        <p:nvSpPr>
          <p:cNvPr id="12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lmet</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ce mask</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uth guard</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roat guard</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dded chest protector</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rist guards</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hletic cup</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nee pads and elbow pads</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in guards</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per athletic footwea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voiding Harmful Substances, p. 158</a:t>
            </a:r>
            <a:endParaRPr b="0" lang="en-US" sz="4000" spc="-1" strike="noStrike">
              <a:solidFill>
                <a:srgbClr val="ffffff"/>
              </a:solidFill>
              <a:latin typeface="Times New Roman"/>
            </a:endParaRPr>
          </a:p>
        </p:txBody>
      </p:sp>
      <p:sp>
        <p:nvSpPr>
          <p:cNvPr id="12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You can build strength and endurance safely with regular workouts and good nutrition. Some people however, use performance-enhancing drugs such as anabolic steroi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Anabolic steroids are synthetic compounds that cause muscle tissue to develop at an abnormally high rat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abolic Steroids</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ve legitimate medical uses, such as treating some types of cancer.</a:t>
            </a:r>
            <a:r>
              <a:rPr b="0" lang="en-US" sz="2200" spc="-1" strike="noStrike">
                <a:solidFill>
                  <a:srgbClr val="ffff00"/>
                </a:solidFill>
                <a:latin typeface="Arial"/>
              </a:rPr>
              <a:t> It is illegal, however, to use them to improve athletic performance. They are also very dangerous because of their side effects:</a:t>
            </a:r>
            <a:endParaRPr b="0" lang="en-US" sz="22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ne</a:t>
            </a:r>
            <a:endParaRPr b="0" lang="en-US" sz="20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akening of tendons</a:t>
            </a:r>
            <a:endParaRPr b="0" lang="en-US" sz="20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mage to cardiovascular system</a:t>
            </a:r>
            <a:endParaRPr b="0" lang="en-US" sz="20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one damage</a:t>
            </a:r>
            <a:endParaRPr b="0" lang="en-US" sz="20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rmful effects on sexual characteristics, including growth of facial hair in females and breast development in males</a:t>
            </a:r>
            <a:endParaRPr b="0" lang="en-US" sz="20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ental and emotional effects – irritability, anxiety, suspicion, aggression</a:t>
            </a:r>
            <a:endParaRPr b="0" lang="en-US" sz="20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iver and brain canc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deo</a:t>
            </a:r>
            <a:endParaRPr b="0" lang="en-US" sz="4400" spc="-1" strike="noStrike">
              <a:solidFill>
                <a:srgbClr val="ffffff"/>
              </a:solidFill>
              <a:latin typeface="Times New Roman"/>
            </a:endParaRPr>
          </a:p>
        </p:txBody>
      </p:sp>
      <p:sp>
        <p:nvSpPr>
          <p:cNvPr id="12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999900"/>
                </a:solidFill>
                <a:uFillTx/>
                <a:latin typeface="Arial"/>
                <a:hlinkClick r:id="rId1"/>
              </a:rPr>
              <a:t>Anabolic Steroids</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999900"/>
                </a:solidFill>
                <a:uFillTx/>
                <a:latin typeface="Arial"/>
                <a:hlinkClick r:id="rId2"/>
              </a:rPr>
              <a:t>Anabolic Steroids 2</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ELL ACTIVITY</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You are a professional athlete competing in the sport of your choice. Write down everything you eat and drink on the day before a big game or an important competition.</a:t>
            </a:r>
            <a:endParaRPr b="0" lang="en-US" sz="3100" spc="-1" strike="noStrike">
              <a:solidFill>
                <a:srgbClr val="ffffff"/>
              </a:solidFill>
              <a:latin typeface="Arial"/>
            </a:endParaRPr>
          </a:p>
        </p:txBody>
      </p:sp>
      <p:pic>
        <p:nvPicPr>
          <p:cNvPr id="94" name="" descr=""/>
          <p:cNvPicPr/>
          <p:nvPr/>
        </p:nvPicPr>
        <p:blipFill>
          <a:blip r:embed="rId1"/>
          <a:stretch/>
        </p:blipFill>
        <p:spPr>
          <a:xfrm>
            <a:off x="6705720" y="4038480"/>
            <a:ext cx="1714320" cy="171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ports &amp; Energy p. 154</a:t>
            </a:r>
            <a:endParaRPr b="0" lang="en-US" sz="4400" spc="-1" strike="noStrike">
              <a:solidFill>
                <a:srgbClr val="ffffff"/>
              </a:solidFill>
              <a:latin typeface="Times New Roman"/>
            </a:endParaRPr>
          </a:p>
        </p:txBody>
      </p:sp>
      <p:sp>
        <p:nvSpPr>
          <p:cNvPr id="9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You already know that to maintain your weight, you need to use the same number of calories as you put into your body by eating.</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f you play sports, you will use more energy.</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fore, to maintain your weight, you will need additional calori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ports &amp; Energy…</a:t>
            </a:r>
            <a:endParaRPr b="0" lang="en-US" sz="4400" spc="-1" strike="noStrike">
              <a:solidFill>
                <a:srgbClr val="ffffff"/>
              </a:solidFill>
              <a:latin typeface="Times New Roman"/>
            </a:endParaRPr>
          </a:p>
        </p:txBody>
      </p:sp>
      <p:sp>
        <p:nvSpPr>
          <p:cNvPr id="9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 all sports require the same amount of energy.</a:t>
            </a:r>
            <a:endParaRPr b="0" lang="en-US" sz="3100" spc="-1" strike="noStrike">
              <a:solidFill>
                <a:srgbClr val="ffffff"/>
              </a:solidFill>
              <a:latin typeface="Arial"/>
            </a:endParaRPr>
          </a:p>
        </p:txBody>
      </p:sp>
      <p:pic>
        <p:nvPicPr>
          <p:cNvPr id="99" name="" descr=""/>
          <p:cNvPicPr/>
          <p:nvPr/>
        </p:nvPicPr>
        <p:blipFill>
          <a:blip r:embed="rId1"/>
          <a:stretch/>
        </p:blipFill>
        <p:spPr>
          <a:xfrm>
            <a:off x="2362320" y="2362320"/>
            <a:ext cx="556236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gure 6.2 Sports and Energy Use</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igh Energy Sports (Over 350)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oss-country skiin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bal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cquetbal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pe Jumpin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unnin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cce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gure 6.2 Cont’d…</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oderate-energy Sports (250-350)</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erobic Dancin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dminton</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line and ice-skatin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wimmin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nni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lleyball</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gure 6.2 Cont’d….</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ow-energy Sports (less than 250)</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seball and softbal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sketball (halfcour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owlin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lf</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ymnastic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ikin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do and Karate</a:t>
            </a:r>
            <a:endParaRPr b="0" lang="en-US" sz="2600" spc="-1" strike="noStrike">
              <a:solidFill>
                <a:srgbClr val="ffffff"/>
              </a:solidFill>
              <a:latin typeface="Arial"/>
            </a:endParaRPr>
          </a:p>
        </p:txBody>
      </p:sp>
      <p:pic>
        <p:nvPicPr>
          <p:cNvPr id="106" name="" descr=""/>
          <p:cNvPicPr/>
          <p:nvPr/>
        </p:nvPicPr>
        <p:blipFill>
          <a:blip r:embed="rId1"/>
          <a:stretch/>
        </p:blipFill>
        <p:spPr>
          <a:xfrm>
            <a:off x="5715000" y="2362320"/>
            <a:ext cx="1569960" cy="173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ports and Nutrition, p. 155</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Whether or not you are active in sports, you should have a balanced, nutritious die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Getting enough complex carbohydrates, proteins, vitamins, and minerals – and not consuming too much fat – is important for anyon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f you play sports, however, you will need to keep your body supplied with additional energy.</a:t>
            </a:r>
            <a:endParaRPr b="0" lang="en-US" sz="2700" spc="-1" strike="noStrike">
              <a:solidFill>
                <a:srgbClr val="ffffff"/>
              </a:solidFill>
              <a:latin typeface="Arial"/>
            </a:endParaRPr>
          </a:p>
        </p:txBody>
      </p:sp>
      <p:pic>
        <p:nvPicPr>
          <p:cNvPr id="109" name="" descr=""/>
          <p:cNvPicPr/>
          <p:nvPr/>
        </p:nvPicPr>
        <p:blipFill>
          <a:blip r:embed="rId1"/>
          <a:stretch/>
        </p:blipFill>
        <p:spPr>
          <a:xfrm>
            <a:off x="7162920" y="457200"/>
            <a:ext cx="1331640" cy="129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to Eat, p. 155</a:t>
            </a:r>
            <a:endParaRPr b="0" lang="en-US" sz="44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Eat plenty of complex carbohydrates. </a:t>
            </a:r>
            <a:r>
              <a:rPr b="0" lang="en-US" sz="2700" spc="-1" strike="noStrike">
                <a:solidFill>
                  <a:srgbClr val="ffffff"/>
                </a:solidFill>
                <a:latin typeface="Arial"/>
              </a:rPr>
              <a:t>Fruits and vegetables, pasta, and whole-grain breads will provide your body with carbohydrates, a very efficient source of energy, as well as fiber.</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Get enough vitamins and minerals. </a:t>
            </a:r>
            <a:r>
              <a:rPr b="0" lang="en-US" sz="2700" spc="-1" strike="noStrike">
                <a:solidFill>
                  <a:srgbClr val="ffffff"/>
                </a:solidFill>
                <a:latin typeface="Arial"/>
              </a:rPr>
              <a:t>Iron and calcium. Iron helps to supply your muscles with oxygen while you are exercising. (Red meat and green leafy veggies). Calcium strengthens bones and helps muscles work properly. (Dairy products, salmon, and collard green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13:34:55Z</dcterms:created>
  <dc:creator>GSCS</dc:creator>
  <dc:description/>
  <dc:language>en-US</dc:language>
  <cp:lastModifiedBy>GSCS</cp:lastModifiedBy>
  <dcterms:modified xsi:type="dcterms:W3CDTF">2010-11-09T20:35:29Z</dcterms:modified>
  <cp:revision>5</cp:revision>
  <dc:subject/>
  <dc:title>Chapter 6: Sports &amp; Conditioning</dc:title>
</cp:coreProperties>
</file>